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8035F-1B0E-4332-A047-8E90B15FA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-k[Zn][HCl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-1.08)(3M)(8M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-207.36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reaction is a+b+… This tells you which reactant is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arge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7B70E-5FC0-45AE-A8F0-E5A61E652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, of course, when something matters in chemistry, there is some kind of mathematical formula invol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by nature positive.  But since the amount of reactant is decreasing, we make it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9DB7F-57E7-45C1-83A3-C1F93DD7D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continue this on and on depending on the number of react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, we don’t care about product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6C4FB-3FF1-4C7D-8E96-F12F6FA6E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actions of this type, you will be given information to solve for concentration, k, or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1013F-371B-47E3-B57E-C99C6BECA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hen talking about rate of reaction, the products do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matter unless the reaction is reversible (more on that l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how the coefficients become the superscrip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3186A-3222-4B27-AC03-999892447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1DC-2EA2-4FA2-9FC7-43A4C61E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A0B-BFE2-4E06-B2A4-C1C164AB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A02-1C6F-4E66-8D4F-65B6305B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B4E-67BE-404E-986D-322945E7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9D7-6152-4FC2-B738-FDB7D300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F5E-FBB5-485B-B49E-A69E404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FAA-A937-4279-8A8C-7C9DCB38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F67-01EC-41EC-8537-006308B9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9B2-1691-4E8E-BF17-43F30E7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F62-C471-4A16-AAD3-935EBB4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1BD-21BB-46B4-B55F-28BD1EC8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2A9-9E83-404D-8900-9436916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9C09C-770C-4015-9E8B-608CF976E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 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82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Rat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289480" y="6284880"/>
            <a:ext cx="38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d by Rebekah Marchil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Learning Center for the De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57040" y="65102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57040" y="19368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www.bcscience.com/bc10/images/0_quiz-6.2-05.jpg"/>
          <p:cNvPicPr/>
          <p:nvPr/>
        </p:nvPicPr>
        <p:blipFill>
          <a:blip r:embed="rId1"/>
          <a:stretch/>
        </p:blipFill>
        <p:spPr>
          <a:xfrm>
            <a:off x="2589120" y="3894120"/>
            <a:ext cx="4286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ntration of zinc metal is 3M, the concentration of HCl is 8M.  k for this reaction is 1.08.  What is the rate of rea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2HCl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0" y="181080"/>
            <a:ext cx="899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For a particular reaction at constant temperatur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g) + 2B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[A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of examples ;-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13525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reaction =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ge in concentratio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time required for chang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85392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0.048 moles of magnesium (Mg) completely reacts with acid in 20 sec, what would be the rate of reaction in units of mole per seco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.048 mo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0001 mol/se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0 se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: It was found that 7.0 g of zinc metal reacted completely with acid in 30 sec.  Calculate the average rate of this rea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237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reaction for a single compound decompos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+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k[A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] = concentration of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rate const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8128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suppose 2 molecules collide to form a new product.  The rate formula chang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-k[A][B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0" y="328680"/>
            <a:ext cx="914400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+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-k[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2746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verall Rate of Reaction Formul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 + bB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-k[A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6:04:48Z</dcterms:created>
  <dc:creator>Staff</dc:creator>
  <dc:description/>
  <dc:language>en-US</dc:language>
  <cp:lastModifiedBy>Staff</cp:lastModifiedBy>
  <dcterms:modified xsi:type="dcterms:W3CDTF">2014-04-09T17:24:59Z</dcterms:modified>
  <cp:revision>7</cp:revision>
  <dc:subject/>
  <dc:title>Reaction Kinetics</dc:title>
</cp:coreProperties>
</file>